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4716-71AF-440D-AE08-56AD9C22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417E-04FE-4C5E-BEA9-F5F02B6E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C690-6E16-4112-BF77-52A4E4F1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DC0-0D49-438B-810A-48CDC1DC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2AC-45E9-4014-8F67-2B5AFF36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675-F528-443C-B80C-C213F960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3A8-EAFE-4AF2-9CC1-FC9D5228F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8929-34BF-4855-8329-A0505AF7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 направлен не только и не столько на разработку конкретных цифровых ресурсов и учебных материалов, но на создание устойчивого потенциала в области производства высококачественных материалов, о чем сказано в целях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м для этого, на наш взгляд,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процедур педагогического диз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ытание материалов (апроб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CFA2-5FBF-4CEC-B255-8AFA5E37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коллекции информационных источников – наиболее сложно организованный комплекс состоящий из отдель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ется единая колле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BBB-3D9E-4A2B-9EE0-B6BB1E60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44FD-9522-4EBB-A2D2-8A629525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62D-6FEB-48F6-A023-BAF575F2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B350-C1CD-4DFB-BCF7-03481E7D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12F-B12B-42EF-BB21-692B178C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BC1F-433A-4A19-A6BE-3F8B98B8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943-D575-4493-91D2-B82CABD8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224-C888-4EA9-B109-4E1A27B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A06-9683-478B-AE17-92324379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462-6514-4E2E-9BE7-48C84BB6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EB12-1A0C-4C9E-953A-6E671B20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4F93-E3D0-404F-BED6-45CCB45A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7FA9-109C-4D93-B460-56040CC7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8A8D-967C-477D-9DE0-1F8E5D50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29F0-CBEB-4D60-9A8F-4FF041C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E22B-42E8-4B48-A19A-326221D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3D10-7635-42DF-A760-3D0098E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95F-390B-4344-800F-1108E47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55F6-7118-466E-B2CB-F8E4741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DA00-D00A-428D-82BC-43AC5B7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8A23-FC6F-422C-A552-5FD7513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A221-3809-45B5-899F-27477138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9D77-F8FF-4A5F-8849-F014CEB4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C0D-7948-4B8E-9930-FEC52664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893-1764-409A-B468-B351E63F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5CB-05FE-4392-AB32-FED9E9CE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AE8-5670-497F-8DF9-D4D9A258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FA1-7FA3-4301-B7E2-373915A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21F-2FA9-4E59-AFD3-6B79C950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55F-AA39-4D27-92A7-ABE63EB3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26E9-F327-4B55-AFE9-3AA15A1EB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10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34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42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45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93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117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125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128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1"/>
          <p:cNvGrpSpPr/>
          <p:nvPr/>
        </p:nvGrpSpPr>
        <p:grpSpPr>
          <a:xfrm>
            <a:off x="573120" y="1066680"/>
            <a:ext cx="2293920" cy="3157560"/>
            <a:chOff x="573120" y="1066680"/>
            <a:chExt cx="2293920" cy="3157560"/>
          </a:xfrm>
        </p:grpSpPr>
        <p:sp>
          <p:nvSpPr>
            <p:cNvPr id="137" name="Rectangle 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2f5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23" descr="Логотип НФПК"/>
          <p:cNvPicPr/>
          <p:nvPr/>
        </p:nvPicPr>
        <p:blipFill>
          <a:blip r:embed="rId3"/>
          <a:stretch/>
        </p:blipFill>
        <p:spPr>
          <a:xfrm>
            <a:off x="289080" y="268200"/>
            <a:ext cx="1546200" cy="1062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B253-3347-4D44-9682-2038F6F13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609480" y="1401840"/>
            <a:ext cx="8040960" cy="3395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001960" y="2692440"/>
            <a:ext cx="514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ца 10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йни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– учитель физики Львовский М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мназия № 201, г.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21" name="Picture 4" descr="втор закон"/>
          <p:cNvPicPr/>
          <p:nvPr/>
        </p:nvPicPr>
        <p:blipFill>
          <a:blip r:embed="rId2"/>
          <a:stretch/>
        </p:blipFill>
        <p:spPr>
          <a:xfrm>
            <a:off x="879480" y="1822320"/>
            <a:ext cx="6926400" cy="412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1"/>
          <p:cNvPicPr/>
          <p:nvPr/>
        </p:nvPicPr>
        <p:blipFill>
          <a:blip r:embed="rId1"/>
          <a:stretch/>
        </p:blipFill>
        <p:spPr>
          <a:xfrm>
            <a:off x="480960" y="-19080"/>
            <a:ext cx="8663040" cy="687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2"/>
          <p:cNvPicPr/>
          <p:nvPr/>
        </p:nvPicPr>
        <p:blipFill>
          <a:blip r:embed="rId1"/>
          <a:stretch/>
        </p:blipFill>
        <p:spPr>
          <a:xfrm>
            <a:off x="547560" y="6480"/>
            <a:ext cx="8596440" cy="685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3"/>
          <p:cNvPicPr/>
          <p:nvPr/>
        </p:nvPicPr>
        <p:blipFill>
          <a:blip r:embed="rId1"/>
          <a:stretch/>
        </p:blipFill>
        <p:spPr>
          <a:xfrm>
            <a:off x="487440" y="-27000"/>
            <a:ext cx="8656560" cy="688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4"/>
          <p:cNvPicPr/>
          <p:nvPr/>
        </p:nvPicPr>
        <p:blipFill>
          <a:blip r:embed="rId1"/>
          <a:stretch/>
        </p:blipFill>
        <p:spPr>
          <a:xfrm>
            <a:off x="527040" y="34920"/>
            <a:ext cx="8616960" cy="682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вес 1"/>
          <p:cNvPicPr/>
          <p:nvPr/>
        </p:nvPicPr>
        <p:blipFill>
          <a:blip r:embed="rId1"/>
          <a:stretch/>
        </p:blipFill>
        <p:spPr>
          <a:xfrm>
            <a:off x="520560" y="-4680"/>
            <a:ext cx="8623440" cy="6862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вес 22bmp"/>
          <p:cNvPicPr/>
          <p:nvPr/>
        </p:nvPicPr>
        <p:blipFill>
          <a:blip r:embed="rId1"/>
          <a:stretch/>
        </p:blipFill>
        <p:spPr>
          <a:xfrm>
            <a:off x="447840" y="-31680"/>
            <a:ext cx="8696160" cy="6889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вес 3"/>
          <p:cNvPicPr/>
          <p:nvPr/>
        </p:nvPicPr>
        <p:blipFill>
          <a:blip r:embed="rId1"/>
          <a:stretch/>
        </p:blipFill>
        <p:spPr>
          <a:xfrm>
            <a:off x="471600" y="4680"/>
            <a:ext cx="8672400" cy="68533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Силы, с которыми тела взаимодействуют друг с другом, равны по модулю и направлены вдоль одной прямой в противоположные стороны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1" name="Picture 5" descr="третий закон Ньютона"/>
          <p:cNvPicPr/>
          <p:nvPr/>
        </p:nvPicPr>
        <p:blipFill>
          <a:blip r:embed="rId2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907920" y="506520"/>
            <a:ext cx="7785360" cy="1455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Иллюстрация третьего закона Ньютона учениками на роликовых коньках"/>
          <p:cNvPicPr/>
          <p:nvPr/>
        </p:nvPicPr>
        <p:blipFill>
          <a:blip r:embed="rId2"/>
          <a:stretch/>
        </p:blipFill>
        <p:spPr>
          <a:xfrm>
            <a:off x="1130400" y="1714680"/>
            <a:ext cx="7365960" cy="509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73016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й закон Ньютон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ой закон Ньютон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тий закон Ньютон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907920" y="506520"/>
            <a:ext cx="7785360" cy="1388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Иллюстрация третьего закона Ньютона с помощью магнитов на тележках"/>
          <p:cNvPicPr/>
          <p:nvPr/>
        </p:nvPicPr>
        <p:blipFill>
          <a:blip r:embed="rId2"/>
          <a:stretch/>
        </p:blipFill>
        <p:spPr>
          <a:xfrm>
            <a:off x="1193760" y="1930320"/>
            <a:ext cx="7213680" cy="4762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Иллюстрация третьего закон Ньютона с помощью двух динамометров"/>
          <p:cNvPicPr/>
          <p:nvPr/>
        </p:nvPicPr>
        <p:blipFill>
          <a:blip r:embed="rId2"/>
          <a:stretch/>
        </p:blipFill>
        <p:spPr>
          <a:xfrm>
            <a:off x="1038240" y="1549440"/>
            <a:ext cx="7534440" cy="530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Силы, возникающие при взаимодействии двух тел, приложены к разным телам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40" name="Picture 4" descr="третий закон Ньютона"/>
          <p:cNvPicPr/>
          <p:nvPr/>
        </p:nvPicPr>
        <p:blipFill>
          <a:blip r:embed="rId2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5"/>
          <p:cNvPicPr/>
          <p:nvPr/>
        </p:nvPicPr>
        <p:blipFill>
          <a:blip r:embed="rId1"/>
          <a:stretch/>
        </p:blipFill>
        <p:spPr>
          <a:xfrm>
            <a:off x="504720" y="17640"/>
            <a:ext cx="8639280" cy="6840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6"/>
          <p:cNvPicPr/>
          <p:nvPr/>
        </p:nvPicPr>
        <p:blipFill>
          <a:blip r:embed="rId1"/>
          <a:stretch/>
        </p:blipFill>
        <p:spPr>
          <a:xfrm>
            <a:off x="504720" y="-17640"/>
            <a:ext cx="8639280" cy="6875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7"/>
          <p:cNvPicPr/>
          <p:nvPr/>
        </p:nvPicPr>
        <p:blipFill>
          <a:blip r:embed="rId1"/>
          <a:stretch/>
        </p:blipFill>
        <p:spPr>
          <a:xfrm>
            <a:off x="577800" y="9360"/>
            <a:ext cx="8566200" cy="6848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8"/>
          <p:cNvPicPr/>
          <p:nvPr/>
        </p:nvPicPr>
        <p:blipFill>
          <a:blip r:embed="rId1"/>
          <a:stretch/>
        </p:blipFill>
        <p:spPr>
          <a:xfrm>
            <a:off x="485640" y="-4680"/>
            <a:ext cx="8658360" cy="6862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9"/>
          <p:cNvPicPr/>
          <p:nvPr/>
        </p:nvPicPr>
        <p:blipFill>
          <a:blip r:embed="rId1"/>
          <a:stretch/>
        </p:blipFill>
        <p:spPr>
          <a:xfrm>
            <a:off x="512640" y="0"/>
            <a:ext cx="863136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1-7-2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1-9-2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5600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0" name="Picture 5" descr="законы Ньютона К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-115920" y="244440"/>
            <a:ext cx="8040600" cy="5968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5"/>
          <p:cNvSpPr/>
          <p:nvPr/>
        </p:nvSpPr>
        <p:spPr>
          <a:xfrm>
            <a:off x="1382760" y="1967040"/>
            <a:ext cx="7520040" cy="799920"/>
          </a:xfrm>
          <a:prstGeom prst="rect">
            <a:avLst/>
          </a:prstGeom>
          <a:gradFill rotWithShape="0">
            <a:gsLst>
              <a:gs pos="0">
                <a:srgbClr val="f2f4f4"/>
              </a:gs>
              <a:gs pos="100000">
                <a:srgbClr val="b7b9c4"/>
              </a:gs>
            </a:gsLst>
            <a:lin ang="2700000"/>
          </a:gradFill>
          <a:ln w="9360">
            <a:solidFill>
              <a:srgbClr val="004c34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33a"/>
                </a:solidFill>
                <a:latin typeface="Arial Cyr"/>
              </a:rPr>
              <a:t>Количественно действие одного тела на другое, вызывающее изменение скорости, выражается величиной, называемой с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008000" y="1001880"/>
            <a:ext cx="7311960" cy="799920"/>
          </a:xfrm>
          <a:prstGeom prst="rect">
            <a:avLst/>
          </a:prstGeom>
          <a:gradFill rotWithShape="0">
            <a:gsLst>
              <a:gs pos="0">
                <a:srgbClr val="f2f4f4"/>
              </a:gs>
              <a:gs pos="100000">
                <a:srgbClr val="b7b9c4"/>
              </a:gs>
            </a:gsLst>
            <a:lin ang="2700000"/>
          </a:gradFill>
          <a:ln w="9360">
            <a:solidFill>
              <a:srgbClr val="004c34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33a"/>
                </a:solidFill>
                <a:latin typeface="Arial Cyr"/>
              </a:rPr>
              <a:t>Причиной изменения движения т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33a"/>
                </a:solidFill>
                <a:latin typeface="Arial Cyr"/>
              </a:rPr>
              <a:t>то есть причиной изменения их скорости, являются воздействия на них других т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8352000" y="1131840"/>
            <a:ext cx="684000" cy="324000"/>
          </a:xfrm>
          <a:prstGeom prst="rightArrow">
            <a:avLst>
              <a:gd name="adj1" fmla="val 50000"/>
              <a:gd name="adj2" fmla="val 52778"/>
            </a:avLst>
          </a:prstGeom>
          <a:gradFill rotWithShape="0">
            <a:gsLst>
              <a:gs pos="0">
                <a:srgbClr val="111d15"/>
              </a:gs>
              <a:gs pos="100000">
                <a:srgbClr val="5393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1236600" y="3581280"/>
            <a:ext cx="7424640" cy="793800"/>
          </a:xfrm>
          <a:prstGeom prst="rect">
            <a:avLst/>
          </a:prstGeom>
          <a:gradFill rotWithShape="0">
            <a:gsLst>
              <a:gs pos="0">
                <a:srgbClr val="f2f4f4"/>
              </a:gs>
              <a:gs pos="100000">
                <a:srgbClr val="b7b9c4"/>
              </a:gs>
            </a:gsLst>
            <a:lin ang="2700000"/>
          </a:gradFill>
          <a:ln w="9360">
            <a:solidFill>
              <a:srgbClr val="004c34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33a"/>
                </a:solidFill>
                <a:latin typeface="Arial Cyr"/>
              </a:rPr>
              <a:t>Ускорение, которое получает тело при данном взаимодействии, зависит от особого свойства всякого тела – его инертности</a:t>
            </a:r>
            <a:r>
              <a:rPr b="1" lang="ru-RU" sz="1600" spc="-1" strike="noStrike">
                <a:solidFill>
                  <a:srgbClr val="2f533a"/>
                </a:solidFill>
                <a:latin typeface="Arial Cyr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2"/>
          <p:cNvSpPr/>
          <p:nvPr/>
        </p:nvSpPr>
        <p:spPr>
          <a:xfrm>
            <a:off x="2589120" y="4618080"/>
            <a:ext cx="6002280" cy="186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9cfb5"/>
              </a:gs>
            </a:gsLst>
            <a:lin ang="2700000"/>
          </a:gradFill>
          <a:ln w="9360">
            <a:solidFill>
              <a:srgbClr val="004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2894040" y="2830680"/>
            <a:ext cx="5178240" cy="636480"/>
          </a:xfrm>
          <a:prstGeom prst="rect">
            <a:avLst/>
          </a:prstGeom>
          <a:gradFill rotWithShape="0">
            <a:gsLst>
              <a:gs pos="0">
                <a:srgbClr val="f2f4f4"/>
              </a:gs>
              <a:gs pos="100000">
                <a:srgbClr val="b7b9c4"/>
              </a:gs>
            </a:gsLst>
            <a:lin ang="2700000"/>
          </a:gradFill>
          <a:ln w="9360">
            <a:solidFill>
              <a:srgbClr val="004c34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33a"/>
                </a:solidFill>
                <a:latin typeface="Arial Cyr"/>
              </a:rPr>
              <a:t>Тела взаимодей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2"/>
          <p:cNvSpPr/>
          <p:nvPr/>
        </p:nvSpPr>
        <p:spPr>
          <a:xfrm>
            <a:off x="487440" y="2068560"/>
            <a:ext cx="863640" cy="323640"/>
          </a:xfrm>
          <a:prstGeom prst="rightArrow">
            <a:avLst>
              <a:gd name="adj1" fmla="val 50000"/>
              <a:gd name="adj2" fmla="val 66713"/>
            </a:avLst>
          </a:prstGeom>
          <a:gradFill rotWithShape="0">
            <a:gsLst>
              <a:gs pos="0">
                <a:srgbClr val="111d15"/>
              </a:gs>
              <a:gs pos="100000">
                <a:srgbClr val="5393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6"/>
              <p:cNvSpPr txBox="1"/>
              <p:nvPr/>
            </p:nvSpPr>
            <p:spPr>
              <a:xfrm>
                <a:off x="3801960" y="4724280"/>
                <a:ext cx="3267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Если на тело не действуют силы или их действие скомпенсировано, то данное тело находится в состоянии покоя или равномерного прямолинейного движения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3" name="Picture 4" descr="1 закон Ньютона"/>
          <p:cNvPicPr/>
          <p:nvPr/>
        </p:nvPicPr>
        <p:blipFill>
          <a:blip r:embed="rId2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Существуют такие системы отсчета, относительно которых поступательно движущееся тело сохраняет свою скорость постоянной, если на него не действуют другие тела (или действия других тел компенсируется)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6" name="Picture 4" descr="1 закон Ньютона"/>
          <p:cNvPicPr/>
          <p:nvPr/>
        </p:nvPicPr>
        <p:blipFill>
          <a:blip r:embed="rId2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42920" y="1884240"/>
            <a:ext cx="634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Первый закон Ньютона называют законом инерци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Системы отсчета, относительно которых тела движутся с постоянной скоростью при компенсации внешних воздействий на них, называются инерциальными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9" name="Picture 4" descr="1 закон Ньютона"/>
          <p:cNvPicPr/>
          <p:nvPr/>
        </p:nvPicPr>
        <p:blipFill>
          <a:blip r:embed="rId2"/>
          <a:stretch/>
        </p:blipFill>
        <p:spPr>
          <a:xfrm>
            <a:off x="6461280" y="349092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42560" y="1883880"/>
            <a:ext cx="663876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Ускорение тела прямо пропорционально равнодействующей сил, приложенных к телу, и обратно пропорционально его масс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2" name="Picture 5" descr="Второй закон Ньютона"/>
          <p:cNvPicPr/>
          <p:nvPr/>
        </p:nvPicPr>
        <p:blipFill>
          <a:blip r:embed="rId2"/>
          <a:stretch/>
        </p:blipFill>
        <p:spPr>
          <a:xfrm>
            <a:off x="6743880" y="391176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Если два тела взаимодействуют друг с другом, то ускорения этих тел обратно пропорциональны их массам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5" name="Picture 5" descr="1-9-1"/>
          <p:cNvPicPr/>
          <p:nvPr/>
        </p:nvPicPr>
        <p:blipFill>
          <a:blip r:embed="rId2"/>
          <a:stretch/>
        </p:blipFill>
        <p:spPr>
          <a:xfrm>
            <a:off x="2990880" y="3606840"/>
            <a:ext cx="5933880" cy="3098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1749600" y="2451240"/>
                <a:ext cx="553860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l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2:51:15Z</dcterms:created>
  <dc:creator>khmelds</dc:creator>
  <dc:description/>
  <cp:keywords/>
  <dc:language>en-US</dc:language>
  <cp:lastModifiedBy>User</cp:lastModifiedBy>
  <dcterms:modified xsi:type="dcterms:W3CDTF">2009-05-05T00:18:23Z</dcterms:modified>
  <cp:revision>6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49</vt:lpwstr>
  </property>
</Properties>
</file>